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722-5692-4487-92BB-7C44C105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CB7-B189-45DD-A7B3-4719D457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B46-C8E2-4D64-AFB1-BE81CBE3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E75-173B-438D-BB0C-39E63FA0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683-D736-4584-BB05-3B913963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613-171D-4A4B-8610-8761B07C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381-0B25-4DF7-8F55-FC25B6A7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338-AA36-491C-9D54-012D218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4C1-B663-4FA6-A575-A3EDB98C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A6A-B721-47F9-8B8F-B6CD2D10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C36-FAA8-44F6-9318-A76839F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CBF-B8CA-456C-95F4-F202C2CB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30A3-F0FF-48E9-9E05-477665E65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6nh(602)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31 de ener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Propósito # 36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continuamos el repaso para la prueba del lu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ribe una oración original con cada verb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e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 Complete with the appropriate w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empieza el segundo tiempo, los jugadores de futbol vuelven al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quipo ___________ el partido y el otro equipo pie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balon entra en la porteria, ___________ mete un gol y _________ un ta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un equipo de futbol hay once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- Ident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03372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3733560" cy="193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524560" y="33336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66680" y="4648320"/>
            <a:ext cx="274320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1600" y="38098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19520" y="1295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85440" y="22093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886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895480"/>
            <a:ext cx="3808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09120" y="3276720"/>
            <a:ext cx="83844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25744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838080"/>
            <a:ext cx="3505320" cy="358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86000" y="53352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- Complete with the appropriat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, queremos ir al pa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¿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riero jugar, no estudi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¿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zamos a jugar a las o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¿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quiero jugar con el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- Conjug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914400"/>
          <a:ext cx="6857640" cy="2590920"/>
        </p:xfrm>
        <a:graphic>
          <a:graphicData uri="http://schemas.openxmlformats.org/drawingml/2006/table">
            <a:tbl>
              <a:tblPr/>
              <a:tblGrid>
                <a:gridCol w="1192680"/>
                <a:gridCol w="1789200"/>
                <a:gridCol w="2041920"/>
                <a:gridCol w="183384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76520" y="3809880"/>
          <a:ext cx="6705000" cy="2667240"/>
        </p:xfrm>
        <a:graphic>
          <a:graphicData uri="http://schemas.openxmlformats.org/drawingml/2006/table">
            <a:tbl>
              <a:tblPr/>
              <a:tblGrid>
                <a:gridCol w="1166760"/>
                <a:gridCol w="1746720"/>
                <a:gridCol w="1819800"/>
                <a:gridCol w="1971720"/>
              </a:tblGrid>
              <a:tr h="66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efe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Quiz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E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6:41:08Z</dcterms:created>
  <dc:creator>Helen Zumaeta</dc:creator>
  <dc:description/>
  <dc:language>en-US</dc:language>
  <cp:lastModifiedBy>Helen Zumaeta</cp:lastModifiedBy>
  <dcterms:modified xsi:type="dcterms:W3CDTF">2013-01-31T22:03:11Z</dcterms:modified>
  <cp:revision>12</cp:revision>
  <dc:subject/>
  <dc:title>Me llamo _________ Clase 6nh/il La fecha es el 4 de mayo del 2011</dc:title>
</cp:coreProperties>
</file>